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LAP.WAV" ContentType="audio/x-wav"/>
  <Override PartName="/ppt/media/TYPE.WAV" ContentType="audio/x-wav"/>
  <Override PartName="/ppt/media/image9.jpeg" ContentType="image/jpeg"/>
  <Override PartName="/ppt/media/image13.png" ContentType="image/png"/>
  <Override PartName="/ppt/media/PROJCTOR.WAV" ContentType="audio/x-wav"/>
  <Override PartName="/ppt/media/image6.png" ContentType="image/png"/>
  <Override PartName="/ppt/media/image7.jpeg" ContentType="image/jpeg"/>
  <Override PartName="/ppt/media/image11.png" ContentType="image/png"/>
  <Override PartName="/ppt/media/image12.png" ContentType="image/png"/>
  <Override PartName="/ppt/media/GLASS.WAV" ContentType="audio/x-wav"/>
  <Override PartName="/ppt/media/image1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10.wmf" ContentType="image/x-wmf"/>
  <Override PartName="/ppt/media/image4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4CD9F-1230-4825-B6EC-B991829732F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3300"/>
                </a:solidFill>
                <a:latin typeface="Calibri"/>
              </a:rPr>
              <a:t>Периодический закон Д.И.Менделее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(1834-1907г.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F97CD-5575-45E8-8189-093E033F3AA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ые качества   уче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И. Менделеева от других химиков отличали: энциклопедичность химических знаний, умение анализировать и обобщать факты, научное прогнозирование, русский менталитет и русский патриот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B239D-FE82-46B9-AB12-183591492E0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Роль практики в становление те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И. Менделеев предсказывает, описывает и указывает пути открытия еще не известных науке галлия, скандия и герм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50220-0B9F-46A0-B8C1-F157A3AC893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1875 г. Поль Эмиль Лекок де Буабодран (Франция) открыл галлий, предсказанный Менделеевым (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экаалюминий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– подобный алюминию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1879 г. Ларс Фредерик Нильсон (Швеция) открыл скандий, предсказанный Менделеевым (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экабор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– подобный бору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1886 г. Клеменс Александр Винклер (Германия) открыл германий, предсказанный Менделеевым (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экасилиций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– подобный кремнию)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44F74-C57C-46D5-AF30-D3D1623BE6F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Основные направления развития те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а химических элементов и образуемых ими веществ в периодической зависимости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… от их относительных атомных масс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… от зарядов их атомных ядер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… от периодичности в изменении внешних электронных слоев атом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17FB2-CE85-410A-9E12-0466F0A97B5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Периодический закон Д.И.Менделеева был открыт в 1869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3E5EA-C182-41D1-8E9F-B6B9D6015E9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Предпосылки создания    зак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опление фактологического матери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ы предшествен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ъезд химиков в г.Карлсруэ в 1860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остные каче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46C13-D55E-4C77-AB93-FEB4028BF6B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копление фактологического материал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 времени открытия Периодического закона было известно 63 элемента и описаны свойства их многочисленных соеди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DBCA6-84D4-443A-8587-B141B2685D9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ы предшествен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Й. Берцелиус (Металлы и    неметаллы)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.В. Деберейнер (Триад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А.Р. Ньюлендс (Октав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.Мей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B5206-CED4-486C-A466-AB43822AB88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Джон Ньюлендс 1865г.</a:t>
            </a:r>
            <a:br>
              <a:rPr sz="1200"/>
            </a:b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Закон «Окта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9562B-AFEC-4BBF-8580-046C2831F5D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ъезд химиков в       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 Карлсруэ в 1860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И. Менделеев присутствовал в роли наблюда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2120C-B528-4F12-837B-1393E9077F4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FA79-620B-402F-A532-6330F421D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3339-2065-4C40-99CC-EDAD02AE3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DACA-598F-48D7-A8C6-D2CDAEAFE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45D2-DBA3-4896-AE37-AD508AFF4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88CEE-97FE-4B5D-814E-F02B66B89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9D693-8C62-4BDB-A14F-686D7C5B4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302F5-E26F-409D-BF27-5BB0010CD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162AE-C25B-467A-A6C2-A8C1514C6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54E09-4887-4FBC-8210-31FCA1B17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32FB3-898B-4518-99B3-FC4D43F76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79635-3F49-46FD-B9C8-C30A5539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F410-AE8E-4E95-A13C-E76FCA859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8A415-78B0-42EB-A09C-DE742D88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99283-59F2-42FE-8052-DD1A9E47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A9BF4-2395-4D78-80B3-749A18FEE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3B06B-C586-4F58-BA92-49F15FACA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19BEC-526F-4059-8307-CD84498AC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18EE-BE89-44D0-AFCE-4BE88A5A0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DD5B-5E0D-4905-9635-CCBD41669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837C-A117-4EAD-BAE8-FA453008B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6DA3-3BD4-46B4-AE96-B24B2DD09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7C62-5462-42A5-B381-E80927E0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E676-49F9-480C-8917-9BE2D70D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81AD-0BBA-40CC-9B12-2BDF376B9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ADB58-0F10-45F7-87DF-F8EDEE10FBE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6724B-E7FB-42BE-AE7C-40F4ADE7FB2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audio" Target="../media/TYPE.WAV"/><Relationship Id="rId4" Type="http://schemas.openxmlformats.org/officeDocument/2006/relationships/audio" Target="../media/CLAP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GLASS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audio" Target="../media/PROJCTOR.WAV"/><Relationship Id="rId8" Type="http://schemas.openxmlformats.org/officeDocument/2006/relationships/audio" Target="../media/PROJCTOR.WAV"/><Relationship Id="rId9" Type="http://schemas.openxmlformats.org/officeDocument/2006/relationships/audio" Target="../media/PROJCTOR.WAV"/><Relationship Id="rId10" Type="http://schemas.openxmlformats.org/officeDocument/2006/relationships/audio" Target="../media/PROJCTOR.WAV"/><Relationship Id="rId11" Type="http://schemas.openxmlformats.org/officeDocument/2006/relationships/audio" Target="../media/PROJCTOR.WAV"/><Relationship Id="rId12" Type="http://schemas.openxmlformats.org/officeDocument/2006/relationships/audio" Target="../media/PROJCTOR.WAV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3300"/>
                </a:solidFill>
                <a:latin typeface="Arial Black"/>
              </a:rPr>
              <a:t>Периодический закон Д.И.Менделеева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723920" y="5445000"/>
            <a:ext cx="3079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(1834-1907г.г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16" descr="C:\Documents and Settings\Admin\Мои документы\портреты химиков и алхимиков\менделеев.jpg"/>
          <p:cNvPicPr/>
          <p:nvPr/>
        </p:nvPicPr>
        <p:blipFill>
          <a:blip r:embed="rId1"/>
          <a:stretch/>
        </p:blipFill>
        <p:spPr>
          <a:xfrm>
            <a:off x="1600200" y="2590920"/>
            <a:ext cx="2459160" cy="388620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108" name="Picture 17" descr="C:\Documents and Settings\Admin\Мои документы\Мои рисунки\учебники\учебник1.jpg"/>
          <p:cNvPicPr/>
          <p:nvPr/>
        </p:nvPicPr>
        <p:blipFill>
          <a:blip r:embed="rId2"/>
          <a:stretch/>
        </p:blipFill>
        <p:spPr>
          <a:xfrm>
            <a:off x="7848720" y="0"/>
            <a:ext cx="1181160" cy="175248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Личные качества   ученог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.И. Менделеева от других химиков отличали: энциклопедичность химических знаний, умение анализировать и обобщать факты, научное прогнозирование, русский менталитет и русский патриотиз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6"/>
          <p:cNvSpPr/>
          <p:nvPr/>
        </p:nvSpPr>
        <p:spPr>
          <a:xfrm>
            <a:off x="971640" y="5734080"/>
            <a:ext cx="1079280" cy="719280"/>
          </a:xfrm>
          <a:custGeom>
            <a:avLst/>
            <a:gdLst>
              <a:gd name="textAreaLeft" fmla="*/ 46440 w 1079280"/>
              <a:gd name="textAreaRight" fmla="*/ 1032840 w 1079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2405" h="21600">
                <a:moveTo>
                  <a:pt x="0" y="0"/>
                </a:moveTo>
                <a:lnTo>
                  <a:pt x="32405" y="0"/>
                </a:lnTo>
                <a:lnTo>
                  <a:pt x="32405" y="21600"/>
                </a:lnTo>
                <a:lnTo>
                  <a:pt x="0" y="21600"/>
                </a:lnTo>
                <a:close/>
              </a:path>
              <a:path fill="lightenLess" w="32405" h="21600">
                <a:moveTo>
                  <a:pt x="0" y="0"/>
                </a:moveTo>
                <a:lnTo>
                  <a:pt x="32405" y="0"/>
                </a:lnTo>
                <a:lnTo>
                  <a:pt x="31005" y="1400"/>
                </a:lnTo>
                <a:lnTo>
                  <a:pt x="1400" y="1400"/>
                </a:lnTo>
                <a:close/>
              </a:path>
              <a:path fill="darken" w="32405" h="21600">
                <a:moveTo>
                  <a:pt x="32405" y="0"/>
                </a:moveTo>
                <a:lnTo>
                  <a:pt x="32405" y="21600"/>
                </a:lnTo>
                <a:lnTo>
                  <a:pt x="31005" y="20200"/>
                </a:lnTo>
                <a:lnTo>
                  <a:pt x="31005" y="1400"/>
                </a:lnTo>
                <a:close/>
              </a:path>
              <a:path fill="darkenLess" w="32405" h="21600">
                <a:moveTo>
                  <a:pt x="32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5" y="20200"/>
                </a:lnTo>
                <a:close/>
              </a:path>
              <a:path fill="lighten" w="32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5" h="21600">
                <a:moveTo>
                  <a:pt x="9196" y="10800"/>
                </a:moveTo>
                <a:lnTo>
                  <a:pt x="23209" y="3794"/>
                </a:lnTo>
                <a:lnTo>
                  <a:pt x="23209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01"/>
          <p:cNvPicPr/>
          <p:nvPr/>
        </p:nvPicPr>
        <p:blipFill>
          <a:blip r:embed="rId1"/>
          <a:stretch/>
        </p:blipFill>
        <p:spPr>
          <a:xfrm>
            <a:off x="1066680" y="152280"/>
            <a:ext cx="7010640" cy="647712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02"/>
          <p:cNvPicPr/>
          <p:nvPr/>
        </p:nvPicPr>
        <p:blipFill>
          <a:blip r:embed="rId1"/>
          <a:stretch/>
        </p:blipFill>
        <p:spPr>
          <a:xfrm>
            <a:off x="2057400" y="0"/>
            <a:ext cx="533412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Arial Black"/>
              </a:rPr>
              <a:t>Роль практики в становление теори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.И. Менделеев предсказывает, описывает и указывает пути открытия еще не известных науке галлия, скандия и герм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37720" y="685800"/>
            <a:ext cx="8007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 1875 г. Поль Эмиль Лекок де Буабодран (Франция) открыл галлий, предсказанный Менделеевым (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экаалюминий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– подобный алюминию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 1879 г. Ларс Фредерик Нильсон (Швеция) открыл скандий, предсказанный Менделеевым (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экабор</a:t>
            </a: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– подобный бору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 1886 г. Клеменс Александр Винклер (Германия) открыл германий, предсказанный Менделеевым (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экасилиций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– подобный кремнию)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Arial Black"/>
              </a:rPr>
              <a:t>Основные направления развития теори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ойства химических элементов и образуемых ими веществ в периодической зависимости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… от их относительных атомных масс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… от зарядов их атомных ядер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… от периодичности в изменении внешних электронных слоев атомов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C:\Documents and Settings\Admin\Мои документы\портреты химиков и алхимиков\биография менделеев.JPG"/>
          <p:cNvPicPr/>
          <p:nvPr/>
        </p:nvPicPr>
        <p:blipFill>
          <a:blip r:embed="rId2"/>
          <a:stretch/>
        </p:blipFill>
        <p:spPr>
          <a:xfrm>
            <a:off x="533520" y="307800"/>
            <a:ext cx="8153280" cy="618516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Arial Black"/>
              </a:rPr>
              <a:t>Периодический закон Д.И.Менделеева был открыт в 1869г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3" name="Picture 7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7480" cy="476388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Arial Black"/>
              </a:rPr>
              <a:t>Предпосылки создания    закон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Накопление фактологического материа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ы предшественни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ъезд химиков в г.Карлсруэ в 1860 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ичностные качеств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7308720" y="5805360"/>
            <a:ext cx="1008360" cy="648000"/>
          </a:xfrm>
          <a:custGeom>
            <a:avLst/>
            <a:gdLst>
              <a:gd name="textAreaLeft" fmla="*/ 41760 w 1008360"/>
              <a:gd name="textAreaRight" fmla="*/ 966600 w 1008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33605" h="21600">
                <a:moveTo>
                  <a:pt x="0" y="0"/>
                </a:moveTo>
                <a:lnTo>
                  <a:pt x="33605" y="0"/>
                </a:lnTo>
                <a:lnTo>
                  <a:pt x="33605" y="21600"/>
                </a:lnTo>
                <a:lnTo>
                  <a:pt x="0" y="21600"/>
                </a:lnTo>
                <a:close/>
              </a:path>
              <a:path fill="lightenLess" w="33605" h="21600">
                <a:moveTo>
                  <a:pt x="0" y="0"/>
                </a:moveTo>
                <a:lnTo>
                  <a:pt x="33605" y="0"/>
                </a:lnTo>
                <a:lnTo>
                  <a:pt x="32205" y="1400"/>
                </a:lnTo>
                <a:lnTo>
                  <a:pt x="1400" y="1400"/>
                </a:lnTo>
                <a:close/>
              </a:path>
              <a:path fill="darken" w="33605" h="21600">
                <a:moveTo>
                  <a:pt x="33605" y="0"/>
                </a:moveTo>
                <a:lnTo>
                  <a:pt x="33605" y="21600"/>
                </a:lnTo>
                <a:lnTo>
                  <a:pt x="32205" y="20200"/>
                </a:lnTo>
                <a:lnTo>
                  <a:pt x="32205" y="1400"/>
                </a:lnTo>
                <a:close/>
              </a:path>
              <a:path fill="darkenLess" w="33605" h="21600">
                <a:moveTo>
                  <a:pt x="336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05" y="20200"/>
                </a:lnTo>
                <a:close/>
              </a:path>
              <a:path fill="lighten" w="336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605" h="21600">
                <a:moveTo>
                  <a:pt x="9796" y="3794"/>
                </a:moveTo>
                <a:lnTo>
                  <a:pt x="23809" y="10800"/>
                </a:lnTo>
                <a:lnTo>
                  <a:pt x="979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Накопление фактологического материал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 времени открытия Периодического закона было известно 63 элемента и описаны свойства их многочисленных соедин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971640" y="5734080"/>
            <a:ext cx="1079280" cy="719280"/>
          </a:xfrm>
          <a:custGeom>
            <a:avLst/>
            <a:gdLst>
              <a:gd name="textAreaLeft" fmla="*/ 46440 w 1079280"/>
              <a:gd name="textAreaRight" fmla="*/ 1032840 w 1079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2405" h="21600">
                <a:moveTo>
                  <a:pt x="0" y="0"/>
                </a:moveTo>
                <a:lnTo>
                  <a:pt x="32405" y="0"/>
                </a:lnTo>
                <a:lnTo>
                  <a:pt x="32405" y="21600"/>
                </a:lnTo>
                <a:lnTo>
                  <a:pt x="0" y="21600"/>
                </a:lnTo>
                <a:close/>
              </a:path>
              <a:path fill="lightenLess" w="32405" h="21600">
                <a:moveTo>
                  <a:pt x="0" y="0"/>
                </a:moveTo>
                <a:lnTo>
                  <a:pt x="32405" y="0"/>
                </a:lnTo>
                <a:lnTo>
                  <a:pt x="31005" y="1400"/>
                </a:lnTo>
                <a:lnTo>
                  <a:pt x="1400" y="1400"/>
                </a:lnTo>
                <a:close/>
              </a:path>
              <a:path fill="darken" w="32405" h="21600">
                <a:moveTo>
                  <a:pt x="32405" y="0"/>
                </a:moveTo>
                <a:lnTo>
                  <a:pt x="32405" y="21600"/>
                </a:lnTo>
                <a:lnTo>
                  <a:pt x="31005" y="20200"/>
                </a:lnTo>
                <a:lnTo>
                  <a:pt x="31005" y="1400"/>
                </a:lnTo>
                <a:close/>
              </a:path>
              <a:path fill="darkenLess" w="32405" h="21600">
                <a:moveTo>
                  <a:pt x="32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5" y="20200"/>
                </a:lnTo>
                <a:close/>
              </a:path>
              <a:path fill="lighten" w="32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5" h="21600">
                <a:moveTo>
                  <a:pt x="9196" y="10800"/>
                </a:moveTo>
                <a:lnTo>
                  <a:pt x="23209" y="3794"/>
                </a:lnTo>
                <a:lnTo>
                  <a:pt x="23209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аботы предшественников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Й. Берцелиус (Металлы и    неметаллы)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.В. Деберейнер (Триады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.А.Р. Ньюлендс (Октавы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.Мей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>
            <a:off x="971640" y="5734080"/>
            <a:ext cx="1079280" cy="719280"/>
          </a:xfrm>
          <a:custGeom>
            <a:avLst/>
            <a:gdLst>
              <a:gd name="textAreaLeft" fmla="*/ 46440 w 1079280"/>
              <a:gd name="textAreaRight" fmla="*/ 1032840 w 1079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2405" h="21600">
                <a:moveTo>
                  <a:pt x="0" y="0"/>
                </a:moveTo>
                <a:lnTo>
                  <a:pt x="32405" y="0"/>
                </a:lnTo>
                <a:lnTo>
                  <a:pt x="32405" y="21600"/>
                </a:lnTo>
                <a:lnTo>
                  <a:pt x="0" y="21600"/>
                </a:lnTo>
                <a:close/>
              </a:path>
              <a:path fill="lightenLess" w="32405" h="21600">
                <a:moveTo>
                  <a:pt x="0" y="0"/>
                </a:moveTo>
                <a:lnTo>
                  <a:pt x="32405" y="0"/>
                </a:lnTo>
                <a:lnTo>
                  <a:pt x="31005" y="1400"/>
                </a:lnTo>
                <a:lnTo>
                  <a:pt x="1400" y="1400"/>
                </a:lnTo>
                <a:close/>
              </a:path>
              <a:path fill="darken" w="32405" h="21600">
                <a:moveTo>
                  <a:pt x="32405" y="0"/>
                </a:moveTo>
                <a:lnTo>
                  <a:pt x="32405" y="21600"/>
                </a:lnTo>
                <a:lnTo>
                  <a:pt x="31005" y="20200"/>
                </a:lnTo>
                <a:lnTo>
                  <a:pt x="31005" y="1400"/>
                </a:lnTo>
                <a:close/>
              </a:path>
              <a:path fill="darkenLess" w="32405" h="21600">
                <a:moveTo>
                  <a:pt x="32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5" y="20200"/>
                </a:lnTo>
                <a:close/>
              </a:path>
              <a:path fill="lighten" w="32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5" h="21600">
                <a:moveTo>
                  <a:pt x="9196" y="10800"/>
                </a:moveTo>
                <a:lnTo>
                  <a:pt x="23209" y="3794"/>
                </a:lnTo>
                <a:lnTo>
                  <a:pt x="23209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8" descr=""/>
          <p:cNvPicPr/>
          <p:nvPr/>
        </p:nvPicPr>
        <p:blipFill>
          <a:blip r:embed="rId1"/>
          <a:stretch/>
        </p:blipFill>
        <p:spPr>
          <a:xfrm>
            <a:off x="6804000" y="404640"/>
            <a:ext cx="1876320" cy="2089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Ньюленс"/>
          <p:cNvPicPr/>
          <p:nvPr/>
        </p:nvPicPr>
        <p:blipFill>
          <a:blip r:embed="rId2"/>
          <a:stretch/>
        </p:blipFill>
        <p:spPr>
          <a:xfrm>
            <a:off x="4788000" y="4292640"/>
            <a:ext cx="1676160" cy="2268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i[3]"/>
          <p:cNvPicPr/>
          <p:nvPr/>
        </p:nvPicPr>
        <p:blipFill>
          <a:blip r:embed="rId3"/>
          <a:stretch/>
        </p:blipFill>
        <p:spPr>
          <a:xfrm>
            <a:off x="6877080" y="2852640"/>
            <a:ext cx="1762200" cy="2232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i[13]"/>
          <p:cNvPicPr/>
          <p:nvPr/>
        </p:nvPicPr>
        <p:blipFill>
          <a:blip r:embed="rId4"/>
          <a:stretch/>
        </p:blipFill>
        <p:spPr>
          <a:xfrm>
            <a:off x="2843280" y="4797360"/>
            <a:ext cx="1395360" cy="165744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cac8a"/>
            </a:gs>
            <a:gs pos="50000">
              <a:srgbClr val="ffffcc"/>
            </a:gs>
            <a:gs pos="100000">
              <a:srgbClr val="acac8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Arial Black"/>
              </a:rPr>
              <a:t>Джон Ньюлендс 1865г.</a:t>
            </a:r>
            <a:br>
              <a:rPr sz="4400"/>
            </a:br>
            <a:r>
              <a:rPr b="0" lang="ru-RU" sz="4400" spc="-1" strike="noStrike">
                <a:solidFill>
                  <a:srgbClr val="ff6600"/>
                </a:solidFill>
                <a:latin typeface="Arial Black"/>
              </a:rPr>
              <a:t>Закон «Октав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32" name="Object 3"/>
          <p:cNvGraphicFramePr/>
          <p:nvPr/>
        </p:nvGraphicFramePr>
        <p:xfrm>
          <a:off x="609480" y="2017800"/>
          <a:ext cx="8366400" cy="4459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17800"/>
                    <a:ext cx="8366400" cy="44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" nodeType="afterEffect" fill="hold" presetClass="entr" presetID="16" presetSubtype="4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Line 2"/>
          <p:cNvSpPr/>
          <p:nvPr/>
        </p:nvSpPr>
        <p:spPr>
          <a:xfrm flipH="1">
            <a:off x="5985360" y="3576600"/>
            <a:ext cx="1459080" cy="1660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3"/>
          <p:cNvSpPr/>
          <p:nvPr/>
        </p:nvSpPr>
        <p:spPr>
          <a:xfrm flipH="1">
            <a:off x="5151960" y="2903040"/>
            <a:ext cx="1683360" cy="1132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4"/>
          <p:cNvSpPr/>
          <p:nvPr/>
        </p:nvSpPr>
        <p:spPr>
          <a:xfrm flipH="1">
            <a:off x="4630680" y="2207520"/>
            <a:ext cx="1615320" cy="679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5"/>
          <p:cNvSpPr/>
          <p:nvPr/>
        </p:nvSpPr>
        <p:spPr>
          <a:xfrm flipH="1">
            <a:off x="3894120" y="1438200"/>
            <a:ext cx="2036880" cy="268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6"/>
          <p:cNvSpPr/>
          <p:nvPr/>
        </p:nvSpPr>
        <p:spPr>
          <a:xfrm flipH="1">
            <a:off x="3124080" y="533520"/>
            <a:ext cx="2819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Oval 7"/>
          <p:cNvSpPr/>
          <p:nvPr/>
        </p:nvSpPr>
        <p:spPr>
          <a:xfrm>
            <a:off x="5486400" y="-1905120"/>
            <a:ext cx="5867280" cy="59436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1829г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Times New Roman"/>
              </a:rPr>
              <a:t>ТРИАД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оган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ёрбеней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685800" y="228600"/>
            <a:ext cx="2666880" cy="762120"/>
          </a:xfrm>
          <a:prstGeom prst="rect">
            <a:avLst/>
          </a:prstGeom>
          <a:gradFill rotWithShape="0">
            <a:gsLst>
              <a:gs pos="0">
                <a:srgbClr val="a987a9"/>
              </a:gs>
              <a:gs pos="50000">
                <a:srgbClr val="ffccff"/>
              </a:gs>
              <a:gs pos="100000">
                <a:srgbClr val="a987a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     Na     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6,9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23,0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9,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1295280" y="1371600"/>
            <a:ext cx="2667240" cy="762120"/>
          </a:xfrm>
          <a:prstGeom prst="rect">
            <a:avLst/>
          </a:prstGeom>
          <a:gradFill rotWithShape="0">
            <a:gsLst>
              <a:gs pos="0">
                <a:srgbClr val="a987a9"/>
              </a:gs>
              <a:gs pos="50000">
                <a:srgbClr val="ffccff"/>
              </a:gs>
              <a:gs pos="100000">
                <a:srgbClr val="a987a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     Sr     B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0,1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87,6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37,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10"/>
          <p:cNvSpPr/>
          <p:nvPr/>
        </p:nvSpPr>
        <p:spPr>
          <a:xfrm>
            <a:off x="1981080" y="2514600"/>
            <a:ext cx="2667240" cy="762120"/>
          </a:xfrm>
          <a:prstGeom prst="rect">
            <a:avLst/>
          </a:prstGeom>
          <a:gradFill rotWithShape="0">
            <a:gsLst>
              <a:gs pos="0">
                <a:srgbClr val="a987a9"/>
              </a:gs>
              <a:gs pos="50000">
                <a:srgbClr val="ffccff"/>
              </a:gs>
              <a:gs pos="100000">
                <a:srgbClr val="a987a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     As     S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1,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4,9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21,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11"/>
          <p:cNvSpPr/>
          <p:nvPr/>
        </p:nvSpPr>
        <p:spPr>
          <a:xfrm>
            <a:off x="2666880" y="3657600"/>
            <a:ext cx="2667240" cy="762120"/>
          </a:xfrm>
          <a:prstGeom prst="rect">
            <a:avLst/>
          </a:prstGeom>
          <a:gradFill rotWithShape="0">
            <a:gsLst>
              <a:gs pos="0">
                <a:srgbClr val="a987a9"/>
              </a:gs>
              <a:gs pos="50000">
                <a:srgbClr val="ffccff"/>
              </a:gs>
              <a:gs pos="100000">
                <a:srgbClr val="a987a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     Se     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2,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9,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27,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3429000" y="4800600"/>
            <a:ext cx="2666880" cy="762120"/>
          </a:xfrm>
          <a:prstGeom prst="rect">
            <a:avLst/>
          </a:prstGeom>
          <a:gradFill rotWithShape="0">
            <a:gsLst>
              <a:gs pos="0">
                <a:srgbClr val="8f728f"/>
              </a:gs>
              <a:gs pos="50000">
                <a:srgbClr val="ffccff"/>
              </a:gs>
              <a:gs pos="100000">
                <a:srgbClr val="8f728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     Br     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5,5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79,9      126,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1295280" y="5943600"/>
            <a:ext cx="3962520" cy="609480"/>
          </a:xfrm>
          <a:prstGeom prst="rect">
            <a:avLst/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(6,9+39,1):2 = 23,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1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ъезд химиков в          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г. Карлсруэ в 1860 г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.И. Менделеев присутствовал в роли наблюдате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971640" y="5734080"/>
            <a:ext cx="1079280" cy="719280"/>
          </a:xfrm>
          <a:custGeom>
            <a:avLst/>
            <a:gdLst>
              <a:gd name="textAreaLeft" fmla="*/ 46440 w 1079280"/>
              <a:gd name="textAreaRight" fmla="*/ 1032840 w 1079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2405" h="21600">
                <a:moveTo>
                  <a:pt x="0" y="0"/>
                </a:moveTo>
                <a:lnTo>
                  <a:pt x="32405" y="0"/>
                </a:lnTo>
                <a:lnTo>
                  <a:pt x="32405" y="21600"/>
                </a:lnTo>
                <a:lnTo>
                  <a:pt x="0" y="21600"/>
                </a:lnTo>
                <a:close/>
              </a:path>
              <a:path fill="lightenLess" w="32405" h="21600">
                <a:moveTo>
                  <a:pt x="0" y="0"/>
                </a:moveTo>
                <a:lnTo>
                  <a:pt x="32405" y="0"/>
                </a:lnTo>
                <a:lnTo>
                  <a:pt x="31005" y="1400"/>
                </a:lnTo>
                <a:lnTo>
                  <a:pt x="1400" y="1400"/>
                </a:lnTo>
                <a:close/>
              </a:path>
              <a:path fill="darken" w="32405" h="21600">
                <a:moveTo>
                  <a:pt x="32405" y="0"/>
                </a:moveTo>
                <a:lnTo>
                  <a:pt x="32405" y="21600"/>
                </a:lnTo>
                <a:lnTo>
                  <a:pt x="31005" y="20200"/>
                </a:lnTo>
                <a:lnTo>
                  <a:pt x="31005" y="1400"/>
                </a:lnTo>
                <a:close/>
              </a:path>
              <a:path fill="darkenLess" w="32405" h="21600">
                <a:moveTo>
                  <a:pt x="32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5" y="20200"/>
                </a:lnTo>
                <a:close/>
              </a:path>
              <a:path fill="lighten" w="32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5" h="21600">
                <a:moveTo>
                  <a:pt x="9196" y="10800"/>
                </a:moveTo>
                <a:lnTo>
                  <a:pt x="23209" y="3794"/>
                </a:lnTo>
                <a:lnTo>
                  <a:pt x="23209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1T07:31:55Z</dcterms:created>
  <dc:creator>user</dc:creator>
  <dc:description/>
  <dc:language>en-US</dc:language>
  <cp:lastModifiedBy>LEGION</cp:lastModifiedBy>
  <dcterms:modified xsi:type="dcterms:W3CDTF">2015-05-01T11:10:53Z</dcterms:modified>
  <cp:revision>13</cp:revision>
  <dc:subject/>
  <dc:title>Слайд 1</dc:title>
</cp:coreProperties>
</file>